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7746-3641-4AC4-96D0-0E27D2931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751C-622F-404B-B924-2F0BAB08D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220C-E820-400B-9367-F71324F54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86F9-86E8-48ED-9465-63F8A7C8F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66393-EA66-4968-8503-AA1C52937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68FFC-4A74-4AF1-BB91-2DFAD44A2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731DC-9B60-4475-A78C-ED4B03630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BF5B7-726B-4A64-8D97-2F72DC335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B4A04-0B65-4497-A920-68D9EDF3B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CB041-99D3-41F3-B052-71D390953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F41F9-558B-4C23-B676-20D5A162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DB49-287F-4F39-BFEF-EBD4A4222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F9C3A-BCB2-4AF4-B948-D6087A895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DB57A-A5A4-4132-8B64-72917ABA0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90CD1-5615-435B-8EE7-83163FAD0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D386C-3AAC-480C-AB57-E5B175189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0959F-6C98-4F3D-950A-5B762F420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F4A6-60DF-4CAC-B0E1-370A77A5F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7362-239B-4DEC-90B9-5B8FF3AA9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9ED1-DB62-45FA-BA71-99B7A3C6D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662D-752C-4986-A944-F4157A005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F987-089C-48A1-A75E-C53076ED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E604-0888-4D90-9605-3AE58031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68E8-23FA-41C3-9B8C-3F98C51C6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89CE7-9BD3-4D3E-8451-3F796399202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BA55B-2CC1-422B-BF9F-28EFFF3C2E5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Persona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Kinds of Persona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ceful, angry perso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despise the ideas about the American work ethic set forth in this fil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tached, unemotional perso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deas about the American work ethic set forth in this film are similar to what can be found in many other examples of popular contemporary 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Kinds of Persona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volved perso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seems to me that the ideas about the American work ethic in this film are similar to what can be found in many other examples of popular contemporary 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pologetic perso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know that my interpretation of the film isn’t good, but it took me a long time to figure out what I wanted to s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Genre and Rhetorical Situatio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vernment doc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ters to the Edit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ine chat room discu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onal letters to rela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dding annou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ademic pa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ffi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ebook and MySpace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o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Formality in Dictio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oughout one entire seas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everly Hills 902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Kelly has tw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uy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terested in 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oughout one entire seas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everly Hills 902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Kelly has two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ud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ested in 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oughout one entire seas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everly Hills 902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Kelly has two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entleme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ested in 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oughout one entire seas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everly Hills 902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Kelly has two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oung m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terested in 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oughout one entire seas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everly Hills 902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Kelly has two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ito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terested in 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oughout one entire seas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everly Hills 902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Kelly has two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lacke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terested in 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oughout one entire seas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everly Hills 902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Kelly has two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terested in 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Formality in Point of View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-person sing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film gives me the impression that Franklin’s ideas are still alive and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-person plu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film gives us the impression that Franklin’s ideas are still alive and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-person singular and plu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film gives you the impression that Franklin’s ideas are still alive and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Formality in Point of View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-person sing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film gives one the impression that Franklin’s ideas are alive and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film gives viewers the impression that Franklin’s ideas are alive and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ilm gives the impression that Franklin’s ideas are alive and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Formality in Point of View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inite (advice-giving, instructional) second-person point of 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irst thing you must do is examine your own life and your work prior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inite (insider) second-person point of 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think you will agree with my remarks in this pa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definite second-person point of 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nklin says that you need to try to get ahead through working h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Formality in Point of View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plural representing the “insider-director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aper interpret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Death of a Salesm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light of these areas of Franklin’s work ethic theory.  As we will see throughout the discussion, what Franklin says is tested and then shattered by characters in the 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plural representing the “you and me inclusive” perspectiv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is play is any indication, our ideas about the results of work have changed much since Franklin’s “Letter” in the eighteenth cent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plural representing the multiple auth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seems to us that the point Franklin makes is well established in Miller’s 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12:28:15Z</dcterms:created>
  <dc:creator>csclab</dc:creator>
  <dc:description/>
  <dc:language>en-US</dc:language>
  <cp:lastModifiedBy>csclab</cp:lastModifiedBy>
  <dcterms:modified xsi:type="dcterms:W3CDTF">2009-03-24T12:59:35Z</dcterms:modified>
  <cp:revision>6</cp:revision>
  <dc:subject/>
  <dc:title>Persona</dc:title>
</cp:coreProperties>
</file>